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A58CE-37F4-4E42-9756-27DFD212F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4344A-AFF5-4B4D-BC7E-49516E04E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DF89A-42B3-4837-AF03-1EEF0E293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D85FA-971E-4DCD-8C78-13E9E4369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4E41A-841E-4A30-B015-5591FA47D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B0837-58AD-4C46-A9F7-9A71F2906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A0DE1-C9AE-4DF0-994D-581CFB599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AA86E-B82D-4204-B9C2-60DDB7B31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42098-B472-4E0B-92E2-4048E7A9D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E05D6-9EAA-4F72-9DFF-748E08AF4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1CC9A-8725-491C-9FAA-40E3B9F4B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E20AF-61BC-424C-BA4D-D617AF737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AA626-5D87-49B5-B857-DB38BD480091}" type="datetime">
              <a:rPr b="0" lang="es-ES" sz="1400" spc="-1" strike="noStrike">
                <a:solidFill>
                  <a:srgbClr val="000000"/>
                </a:solidFill>
                <a:latin typeface="Arial"/>
              </a:rPr>
              <a:t>28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77032-927C-43DB-ABF6-A496927B50AD}" type="slidenum">
              <a:rPr b="0" lang="es-MX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587520" y="6586560"/>
            <a:ext cx="94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05/12/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081160" y="6095880"/>
            <a:ext cx="5005440" cy="79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Universidad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Autónoma Benito Juárez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de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Oaxaca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, Oax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Facultad de Contaduría y Administració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234280" y="6588000"/>
            <a:ext cx="94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4E4EF-E4FF-4B9E-83EB-18CA33652B52}" type="slidenum">
              <a:rPr b="1" lang="es-MX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 rot="5400000">
            <a:off x="5670360" y="3261240"/>
            <a:ext cx="6629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bbe0e3"/>
                </a:solidFill>
                <a:latin typeface="Arial Black"/>
              </a:rPr>
              <a:t>1</a:t>
            </a:r>
            <a:r>
              <a:rPr b="0" lang="es-MX" sz="1400" spc="-1" strike="noStrike" baseline="30000">
                <a:solidFill>
                  <a:srgbClr val="bbe0e3"/>
                </a:solidFill>
                <a:latin typeface="Arial Black"/>
              </a:rPr>
              <a:t>ra</a:t>
            </a:r>
            <a:r>
              <a:rPr b="0" lang="es-MX" sz="1400" spc="-1" strike="noStrike">
                <a:solidFill>
                  <a:srgbClr val="bbe0e3"/>
                </a:solidFill>
                <a:latin typeface="Arial Black"/>
              </a:rPr>
              <a:t> Reunión Nacional de  Ciencias Empresaria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mailto:jsanchez43@prodigy.net.mx" TargetMode="External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0000"/>
                </a:solidFill>
                <a:latin typeface="Trebuchet MS"/>
              </a:rPr>
              <a:t>Nuevas Tendencias Administrativas                 “Outsourcing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74280" y="155700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Universidad Autónom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Facultad de Contaduría y Administr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Reunión Nacional de  Ciencias Empresaria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Presen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Lic. Jaime G. S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nchez Carrill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7. </a:t>
            </a:r>
            <a:r>
              <a:rPr b="1" lang="es-MX" sz="2400" spc="-1" strike="noStrike">
                <a:solidFill>
                  <a:srgbClr val="006600"/>
                </a:solidFill>
                <a:latin typeface="Arial"/>
              </a:rPr>
              <a:t>LA MODA DEL SIZ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0" y="620640"/>
            <a:ext cx="882000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Down</a:t>
            </a:r>
            <a:r>
              <a:rPr b="0" lang="es-MX" sz="2400" spc="-1" strike="noStrike" u="sng">
                <a:solidFill>
                  <a:srgbClr val="000000"/>
                </a:solidFill>
                <a:uFillTx/>
                <a:latin typeface="Arial"/>
              </a:rPr>
              <a:t>-</a:t>
            </a:r>
            <a:r>
              <a:rPr b="0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sizing</a:t>
            </a:r>
            <a:r>
              <a:rPr b="0" lang="es-MX" sz="24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Aplanar la estructura jerárquica  para eliminar -     niveles y puestos innecesari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a)  Después de la 2a. Guerra mundial.- el  Downsizing, evoluciona, achicando a la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empresas,  fusionando áreas, funciones, puestos, actividades, et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b) Para la gente es Sinónimo de recorte de personal y reducción del costo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laboral.[ pánico laboral y dificultades para la política gubernamental ]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c)  Búsqueda de la eficiencia y mayor productividad, con el ajuste de personal,-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[establecer y nivelar cargas de trabajo]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d) Cuida el crecimiento excesivo piramidal. [ la obesidad horizontal y 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vertical, agrupando actividades similares en puestos afines]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e) Controla la diversificación de las áreas, funciones y puestos de la empres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f)  Disminución proporcional de las estructuras en busca de productividad,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eficiencia y  mayor flexibilida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g) Identificación de elementos clave para buscar el perfeccionamiento 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especialización para el logro del objetivo organizaciona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h)  Se debe cuidar el  </a:t>
            </a:r>
            <a:r>
              <a:rPr b="1" lang="es-MX" sz="1600" spc="-1" strike="noStrike" u="sng">
                <a:solidFill>
                  <a:srgbClr val="000000"/>
                </a:solidFill>
                <a:uFillTx/>
                <a:latin typeface="Arial"/>
              </a:rPr>
              <a:t>NO abuso</a:t>
            </a: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 de esta herramienta para no caer en excesos con -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despidos indiscriminados e irracionales, que derivan en hostilidad o baja moral  e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insatisfacción laboral;  Estrés, sentimientos de rechazo, miedo o  ira  y hasta la -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destrucción de la cultura organizaciona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6A65F-95FD-4A1B-B89D-312A855F2E94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19F627-28AD-4524-AC52-0C1C9B106F0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7. </a:t>
            </a:r>
            <a:r>
              <a:rPr b="1" lang="es-MX" sz="2400" spc="-1" strike="noStrike">
                <a:solidFill>
                  <a:srgbClr val="006600"/>
                </a:solidFill>
                <a:latin typeface="Arial"/>
              </a:rPr>
              <a:t>L a    M O D A   d e l   S I Z I N G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50560" y="980640"/>
            <a:ext cx="8713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Up</a:t>
            </a:r>
            <a:r>
              <a:rPr b="0" lang="es-MX" sz="2400" spc="-1" strike="noStrike" u="sng">
                <a:solidFill>
                  <a:srgbClr val="000000"/>
                </a:solidFill>
                <a:uFillTx/>
                <a:latin typeface="Arial"/>
              </a:rPr>
              <a:t>-</a:t>
            </a:r>
            <a:r>
              <a:rPr b="0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sizing</a:t>
            </a:r>
            <a:r>
              <a:rPr b="0" lang="es-MX" sz="24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Adaptar la estructura organizacional  al crecimiento de la empresa</a:t>
            </a: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. [herramienta de administración estratégica]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Surge por la competencia regional y/o globalizada, originando, alianzas, fusiones para afrontar la crisis.[Asociación de P.&amp; G y Gillette]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Las alianzas estratégicas fomentan y facilitan la competitividad empresarial,   aprovechar sinergias y posicionamiento de los mercados.[Crisa y Kimberly clark]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Vehículo para reforzar, sobrevivir y /o atacar al mercado con estrategias de crecimiento sustentando, expansiones, fusiones, competitividad, &gt; rendimiento, et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Necesidad de ser Líder; O bien,  estar en posición de competir vs. el # 1, [estrategia unidos se logra la fuerza para competir con mayores ventajas]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Aprovechamiento de Sinergias; trabajo en equipo, del talento y  experiencia del capital intelectual 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Manejo racional y optimizado de la pirámide organizacional, al ubicar consciente- mente los niveles, la creación de puestos y de talentos en forma estratégica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Si dos Empresas deciden asociarse, deben de clarificar sus objetivos, alcances, estrategias, comunicación, planes de acción [sinergias],que les conlleven a su  logr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C33C8-1844-43EC-8D12-D3F8C0064FCB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153D0D-74CE-48D5-AA2F-134EC1C9C49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7. </a:t>
            </a:r>
            <a:r>
              <a:rPr b="1" lang="es-MX" sz="2800" spc="-1" strike="noStrike">
                <a:solidFill>
                  <a:srgbClr val="006600"/>
                </a:solidFill>
                <a:latin typeface="Arial"/>
              </a:rPr>
              <a:t>L a    M O D A   d e l   S I Z I N G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8160" y="764640"/>
            <a:ext cx="890748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 u="sng">
                <a:solidFill>
                  <a:srgbClr val="000000"/>
                </a:solidFill>
                <a:uFillTx/>
                <a:latin typeface="Arial"/>
              </a:rPr>
              <a:t>Leftsizing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.- 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Estructura obesa, burocrática, tramitología, se le describe como [El elefante blanco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Se refleja en un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organigrama complejo [muchos niveles, exagerado tramo de control, dificultad en las comunicaciones, conflictos, dualidad de funciones, omisiones, etc.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Deficiente o nulo control de actividades por tener excesivo  #  de puestos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Excesivas o laxas cargas de trabajo, al no medirse y equilibrarse su flujo, volumen y frecuencia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La comunicación es lenta y la información se congela o  pierde y el clima organizacional  refleja personal insatisfecho o complaciente.[burocracia]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Impide tener  Visión de futuro con desarrollo; limitadas oportunidades de cambio, poco flexible; carece de capacidad de autoanalizas y auto evaluación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Concentración de actividades y funciones en forma desordenada y/o  arbitraria, por la costumbre y/o ceguera de taller, empirismo o egoísmo.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Para erradicar este mal habito producto del empirismo se recomienda recurrir al 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 u="sng">
                <a:solidFill>
                  <a:srgbClr val="000000"/>
                </a:solidFill>
                <a:uFillTx/>
                <a:latin typeface="Arial"/>
              </a:rPr>
              <a:t>Righsizing:</a:t>
            </a: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  Justa medida, actuar con estrategia y flexibilidad  conforme a requerimient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71AC2-0529-471A-A0F5-2BC39F824C5F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D39368-4A3B-4FF3-8288-9BF6B84A098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7. </a:t>
            </a:r>
            <a:r>
              <a:rPr b="1" lang="es-MX" sz="2400" spc="-1" strike="noStrike">
                <a:solidFill>
                  <a:srgbClr val="006600"/>
                </a:solidFill>
                <a:latin typeface="Arial"/>
              </a:rPr>
              <a:t>L a    M O D A   d e l   S I Z I N G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583480" cy="568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 u="sng">
                <a:solidFill>
                  <a:srgbClr val="000000"/>
                </a:solidFill>
                <a:uFillTx/>
                <a:latin typeface="Arial"/>
              </a:rPr>
              <a:t>Righsizing: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Justa medida, actuar con estrategia y flexibilidad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conforme a requerimientos. 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[ fusionar estructura y funciones]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Capacitación y desarrollo en habilidades multifunsionales al personal, con el objetivo de que pueda ocupar varios puestos  en caso de requerirse, sin -necesidad de contrataciones adicionales,[los servicios bancarios ejemplo HSBC.]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Requiere de un sistema de </a:t>
            </a:r>
            <a:r>
              <a:rPr b="1" lang="es-MX" sz="1600" spc="-1" strike="noStrike" u="sng">
                <a:solidFill>
                  <a:srgbClr val="000000"/>
                </a:solidFill>
                <a:uFillTx/>
                <a:latin typeface="Arial"/>
              </a:rPr>
              <a:t>motivación e incentivos</a:t>
            </a: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 transparente y competitivo, que sea atractivo y motivacional para el personal al tener mas conocimientos, y poder desarrollar multihabilidades bien reconocidas y remunerada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Fomenta y desarrolla el EMPOWERMENT, la proactividad e iniciativa, así como la participación del personal, con importancia, al ser tomado en cuenta y actuar con liberta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Requiere de un cambio en la </a:t>
            </a:r>
            <a:r>
              <a:rPr b="1" lang="es-MX" sz="1600" spc="-1" strike="noStrike" u="sng">
                <a:solidFill>
                  <a:srgbClr val="000000"/>
                </a:solidFill>
                <a:uFillTx/>
                <a:latin typeface="Arial"/>
              </a:rPr>
              <a:t>cultura organizacional</a:t>
            </a: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, para fomentar el trabajo en equipo, el desarrollo de liderazgo para actuar con  iniciativa y reconocimiento de la Alta direcció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Se debe desarrollar en un ambiente organizacional honrado, transparente y eficientemente comunicado, para evitar conflictos, malas interpretaciones, aclarar, dudas, omisiones, abusos y ofensas, que deterioren el clima labora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Se deben  cuidar las cargas de trabajo y establecer controles e indicadores de resultados efectivos, para nivelarlas y evitar excesos o complacencias [liviandad]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La Participación y compromiso de la Alta gerencia y el  reconocimiento puntual y transparente con el personal, podrán aseguran su éxito o fracaso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ACF4C-491D-474D-A1E4-A57525E5A576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CD59CF-0A35-4C15-B2F6-09D558B307D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4000" y="177480"/>
            <a:ext cx="7543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8. </a:t>
            </a:r>
            <a:r>
              <a:rPr b="0" lang="es-MX" sz="2800" spc="-1" strike="noStrike" u="sng">
                <a:solidFill>
                  <a:srgbClr val="000000"/>
                </a:solidFill>
                <a:uFillTx/>
                <a:latin typeface="Arial"/>
              </a:rPr>
              <a:t>Otras T</a:t>
            </a:r>
            <a:r>
              <a:rPr b="0" lang="es-ES" sz="2800" spc="-1" strike="noStrike" u="sng">
                <a:solidFill>
                  <a:srgbClr val="000000"/>
                </a:solidFill>
                <a:uFillTx/>
                <a:latin typeface="Arial"/>
              </a:rPr>
              <a:t>é</a:t>
            </a:r>
            <a:r>
              <a:rPr b="0" lang="es-MX" sz="2800" spc="-1" strike="noStrike" u="sng">
                <a:solidFill>
                  <a:srgbClr val="000000"/>
                </a:solidFill>
                <a:uFillTx/>
                <a:latin typeface="Arial"/>
              </a:rPr>
              <a:t>cnicas de Apoyo.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 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5280" y="836640"/>
            <a:ext cx="9018720" cy="49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Span Control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Optimización de tramos de contro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ore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ompetencies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:Principales áreas de competencia [</a:t>
            </a: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Corazón o centro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]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Reingeniería</a:t>
            </a: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Simplificar y racionalizar los procesos.[reinventar procesos]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Empowerment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Facultar al personal para que desarrolle sus habilidades y capacidad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Plan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ación Estratégica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Proceso para llevar a la empresa c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visión de futuro, hacia el negocio en el que debe estar, aprovechand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sus recursos de manera optim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Staffing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Services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Ofrecer equipo humano especializa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Desarrollo Organizacional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.- Estudio del clima y medio ambiente de la Empres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Mobbing.-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[To mob.- burlarse]; 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es el Acoso u hostigamiento psicológico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o el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abuso del poder,.-[El autor Heinz  Leymann lo tipifica, como un fenómen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Trabajando con el enemigo]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Se clasifica en 4 acciones o perspectivas 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a)  Limitar la expresión u opinión del afectado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b)  Agredir las relaciones sociales del perjudicado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c)  Afectar la imagen publica de la victima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d)  Afectar la libertad laboral y personal del lesionado  :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A676D-06F2-4460-B4AC-2DD30843983A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C42B6B-69E3-4987-A0F8-6B041117786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324000" y="1052280"/>
            <a:ext cx="8229600" cy="51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Todo lo que no sea tu especialización, no lo hagas,  concesionaselo a  un experto</a:t>
            </a: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onfiable.</a:t>
            </a: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Ahorro de horas hombre cuando la empresa se dedica a su actividad principal.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6600"/>
                </a:solidFill>
                <a:latin typeface="Arial"/>
              </a:rPr>
              <a:t>E</a:t>
            </a:r>
            <a:r>
              <a:rPr b="1" lang="es-MX" sz="20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6600"/>
                </a:solidFill>
                <a:latin typeface="Arial"/>
              </a:rPr>
              <a:t>v</a:t>
            </a:r>
            <a:r>
              <a:rPr b="1" lang="es-MX" sz="20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6600"/>
                </a:solidFill>
                <a:latin typeface="Arial"/>
              </a:rPr>
              <a:t>a</a:t>
            </a:r>
            <a:r>
              <a:rPr b="1" lang="es-MX" sz="20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6600"/>
                </a:solidFill>
                <a:latin typeface="Arial"/>
              </a:rPr>
              <a:t>l</a:t>
            </a:r>
            <a:r>
              <a:rPr b="1" lang="es-MX" sz="20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6600"/>
                </a:solidFill>
                <a:latin typeface="Arial"/>
              </a:rPr>
              <a:t>u</a:t>
            </a:r>
            <a:r>
              <a:rPr b="1" lang="es-MX" sz="20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6600"/>
                </a:solidFill>
                <a:latin typeface="Arial"/>
              </a:rPr>
              <a:t>a</a:t>
            </a:r>
            <a:r>
              <a:rPr b="1" lang="es-MX" sz="20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6600"/>
                </a:solidFill>
                <a:latin typeface="Arial"/>
              </a:rPr>
              <a:t>c</a:t>
            </a:r>
            <a:r>
              <a:rPr b="1" lang="es-MX" sz="20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6600"/>
                </a:solidFill>
                <a:latin typeface="Arial"/>
              </a:rPr>
              <a:t>i</a:t>
            </a:r>
            <a:r>
              <a:rPr b="1" lang="es-MX" sz="20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6600"/>
                </a:solidFill>
                <a:latin typeface="Arial"/>
              </a:rPr>
              <a:t>ó</a:t>
            </a:r>
            <a:r>
              <a:rPr b="1" lang="es-MX" sz="20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6600"/>
                </a:solidFill>
                <a:latin typeface="Arial"/>
              </a:rPr>
              <a:t>n</a:t>
            </a:r>
            <a:r>
              <a:rPr b="1" lang="es-MX" sz="2000" spc="-1" strike="noStrike">
                <a:solidFill>
                  <a:srgbClr val="006600"/>
                </a:solidFill>
                <a:latin typeface="Arial"/>
              </a:rPr>
              <a:t> :</a:t>
            </a:r>
            <a:r>
              <a:rPr b="0" lang="es-ES" sz="2000" spc="-1" strike="noStrike">
                <a:solidFill>
                  <a:srgbClr val="0066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Valoración Económica del Outsourcing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esarrollo de </a:t>
            </a: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una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lista de requerimientos</a:t>
            </a: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 (programa)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Asistencia para seleccionar al Proveedor</a:t>
            </a: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suministrado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Revisión de Políticas de R.</a:t>
            </a: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Human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esarrollo de estrategias de Negociación con el Outsourc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iseño de las cláusulas </a:t>
            </a: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del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ontrato de servicio y </a:t>
            </a: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sus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garantías</a:t>
            </a: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Revisión del contenido Jurídico del contrato y garantías con el Outsourcer.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Pedir asistencia especializada en caso de renegociación o expansión</a:t>
            </a: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e la relación contractual.- (dar un valor agregado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ecidirse a contratar el servicio y superar las expectativas del cliente,</a:t>
            </a: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la desconfianza</a:t>
            </a: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 e incertidumbre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natural a  lo desconocid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Administrar</a:t>
            </a: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el  “Outsourcing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9. </a:t>
            </a:r>
            <a:r>
              <a:rPr b="0" lang="es-MX" sz="3200" spc="-1" strike="noStrike" u="sng">
                <a:solidFill>
                  <a:srgbClr val="000000"/>
                </a:solidFill>
                <a:uFillTx/>
                <a:latin typeface="Arial"/>
              </a:rPr>
              <a:t>Beneficios &amp; Recomendacion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692360" y="2414520"/>
            <a:ext cx="6264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! Para que volver a inventar la rueda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B4849-6895-4D01-A0C2-94EFF7BB02C9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D453D5-8404-4786-9ECC-EB3B3C9900F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Arial"/>
              </a:rPr>
              <a:t>9. </a:t>
            </a:r>
            <a:r>
              <a:rPr b="0" lang="es-MX" sz="3200" spc="-1" strike="noStrike" u="sng">
                <a:solidFill>
                  <a:srgbClr val="000000"/>
                </a:solidFill>
                <a:uFillTx/>
                <a:latin typeface="Arial"/>
              </a:rPr>
              <a:t>Conclusiones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.- caso Industria Automotriz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958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3200400"/>
            <a:ext cx="2590560" cy="1143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219840" y="3276720"/>
            <a:ext cx="241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 u="sng">
                <a:solidFill>
                  <a:srgbClr val="000000"/>
                </a:solidFill>
                <a:uFillTx/>
                <a:latin typeface="Arial"/>
              </a:rPr>
              <a:t>Industria Automotri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O.E.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276720" y="5105520"/>
            <a:ext cx="160020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438720" y="5210280"/>
            <a:ext cx="1207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 u="sng">
                <a:solidFill>
                  <a:srgbClr val="000000"/>
                </a:solidFill>
                <a:uFillTx/>
                <a:latin typeface="Arial"/>
              </a:rPr>
              <a:t>Pintado 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 u="sng">
                <a:solidFill>
                  <a:srgbClr val="000000"/>
                </a:solidFill>
                <a:uFillTx/>
                <a:latin typeface="Arial"/>
              </a:rPr>
              <a:t>Vehícul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4876920" y="3809880"/>
            <a:ext cx="1752480" cy="1447920"/>
          </a:xfrm>
          <a:custGeom>
            <a:avLst/>
            <a:gdLst>
              <a:gd name="textAreaLeft" fmla="*/ 234720 w 1752480"/>
              <a:gd name="textAreaRight" fmla="*/ 1517760 w 1752480"/>
              <a:gd name="textAreaTop" fmla="*/ 287640 h 1447920"/>
              <a:gd name="textAreaBottom" fmla="*/ 87984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576" stAng="-5400000" swAng="5400000"/>
                <a:lnTo>
                  <a:pt x="21600" y="8832"/>
                </a:lnTo>
                <a:arcTo wR="21600" hR="8576" stAng="0" swAng="2898935"/>
                <a:lnTo>
                  <a:pt x="7200" y="21110"/>
                </a:lnTo>
                <a:lnTo>
                  <a:pt x="0" y="17280"/>
                </a:lnTo>
                <a:lnTo>
                  <a:pt x="7200" y="12470"/>
                </a:lnTo>
                <a:lnTo>
                  <a:pt x="7200" y="16662"/>
                </a:lnTo>
                <a:arcTo wR="21600" hR="8576" stAng="2898935" swAng="-2878561"/>
                <a:lnTo>
                  <a:pt x="21598" y="8704"/>
                </a:lnTo>
                <a:arcTo wR="21600" hR="8576" stAng="-20374" swAng="-5379626"/>
                <a:close/>
              </a:path>
              <a:path fill="darkenLess" w="21600" h="21600">
                <a:moveTo>
                  <a:pt x="0" y="0"/>
                </a:moveTo>
                <a:arcTo wR="21600" hR="8576" stAng="-5400000" swAng="5400000"/>
                <a:lnTo>
                  <a:pt x="21600" y="8832"/>
                </a:lnTo>
                <a:arcTo wR="21600" hR="8576" stAng="0" swAng="-20374"/>
                <a:lnTo>
                  <a:pt x="21598" y="8704"/>
                </a:lnTo>
                <a:arcTo wR="21600" hR="8576" stAng="-20374" swAng="-5379626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08760" y="4572000"/>
            <a:ext cx="1215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 u="sng">
                <a:solidFill>
                  <a:srgbClr val="000000"/>
                </a:solidFill>
                <a:uFillTx/>
                <a:latin typeface="Arial"/>
              </a:rPr>
              <a:t>Insour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4343400" y="2362320"/>
            <a:ext cx="1828800" cy="838080"/>
          </a:xfrm>
          <a:custGeom>
            <a:avLst/>
            <a:gdLst>
              <a:gd name="textAreaLeft" fmla="*/ 244800 w 1828800"/>
              <a:gd name="textAreaRight" fmla="*/ 1584000 w 1828800"/>
              <a:gd name="textAreaTop" fmla="*/ 166320 h 838080"/>
              <a:gd name="textAreaBottom" fmla="*/ 5090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576" stAng="-5400000" swAng="5400000"/>
                <a:lnTo>
                  <a:pt x="21600" y="8832"/>
                </a:lnTo>
                <a:arcTo wR="21600" hR="8576" stAng="0" swAng="2898935"/>
                <a:lnTo>
                  <a:pt x="7200" y="21110"/>
                </a:lnTo>
                <a:lnTo>
                  <a:pt x="0" y="17280"/>
                </a:lnTo>
                <a:lnTo>
                  <a:pt x="7200" y="12470"/>
                </a:lnTo>
                <a:lnTo>
                  <a:pt x="7200" y="16662"/>
                </a:lnTo>
                <a:arcTo wR="21600" hR="8576" stAng="2898935" swAng="-2878561"/>
                <a:lnTo>
                  <a:pt x="21598" y="8704"/>
                </a:lnTo>
                <a:arcTo wR="21600" hR="8576" stAng="-20374" swAng="-5379626"/>
                <a:close/>
              </a:path>
              <a:path fill="darkenLess" w="21600" h="21600">
                <a:moveTo>
                  <a:pt x="0" y="0"/>
                </a:moveTo>
                <a:arcTo wR="21600" hR="8576" stAng="-5400000" swAng="5400000"/>
                <a:lnTo>
                  <a:pt x="21600" y="8832"/>
                </a:lnTo>
                <a:arcTo wR="21600" hR="8576" stAng="0" swAng="-20374"/>
                <a:lnTo>
                  <a:pt x="21598" y="8704"/>
                </a:lnTo>
                <a:arcTo wR="21600" hR="8576" stAng="-20374" swAng="-5379626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404600" y="2711520"/>
            <a:ext cx="167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 u="sng">
                <a:solidFill>
                  <a:srgbClr val="000000"/>
                </a:solidFill>
                <a:uFillTx/>
                <a:latin typeface="Arial"/>
              </a:rPr>
              <a:t>Outsourcing 1.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209680" y="2209680"/>
            <a:ext cx="2057400" cy="609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657160" y="2209680"/>
            <a:ext cx="145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Maquila 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Suspensio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62120" y="3352680"/>
            <a:ext cx="1676160" cy="7621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762120" y="2438280"/>
            <a:ext cx="1371600" cy="1143000"/>
          </a:xfrm>
          <a:custGeom>
            <a:avLst/>
            <a:gdLst>
              <a:gd name="textAreaLeft" fmla="*/ 183600 w 1371600"/>
              <a:gd name="textAreaRight" fmla="*/ 1188000 w 1371600"/>
              <a:gd name="textAreaTop" fmla="*/ 226800 h 1143000"/>
              <a:gd name="textAreaBottom" fmla="*/ 69444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576" stAng="-5400000" swAng="5400000"/>
                <a:lnTo>
                  <a:pt x="21600" y="8832"/>
                </a:lnTo>
                <a:arcTo wR="21600" hR="8576" stAng="0" swAng="2898935"/>
                <a:lnTo>
                  <a:pt x="7200" y="21110"/>
                </a:lnTo>
                <a:lnTo>
                  <a:pt x="0" y="17280"/>
                </a:lnTo>
                <a:lnTo>
                  <a:pt x="7200" y="12470"/>
                </a:lnTo>
                <a:lnTo>
                  <a:pt x="7200" y="16662"/>
                </a:lnTo>
                <a:arcTo wR="21600" hR="8576" stAng="2898935" swAng="-2878561"/>
                <a:lnTo>
                  <a:pt x="21598" y="8704"/>
                </a:lnTo>
                <a:arcTo wR="21600" hR="8576" stAng="-20374" swAng="-5379626"/>
                <a:close/>
              </a:path>
              <a:path fill="darkenLess" w="21600" h="21600">
                <a:moveTo>
                  <a:pt x="0" y="0"/>
                </a:moveTo>
                <a:arcTo wR="21600" hR="8576" stAng="-5400000" swAng="5400000"/>
                <a:lnTo>
                  <a:pt x="21600" y="8832"/>
                </a:lnTo>
                <a:arcTo wR="21600" hR="8576" stAng="0" swAng="-20374"/>
                <a:lnTo>
                  <a:pt x="21598" y="8704"/>
                </a:lnTo>
                <a:arcTo wR="21600" hR="8576" stAng="-20374" swAng="-5379626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977760" y="342900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Sub ensamb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de ej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70680" y="2133720"/>
            <a:ext cx="161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 u="sng">
                <a:solidFill>
                  <a:srgbClr val="000000"/>
                </a:solidFill>
                <a:uFillTx/>
                <a:latin typeface="Arial"/>
              </a:rPr>
              <a:t>Outsourcing.-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505320" y="3809880"/>
            <a:ext cx="1295280" cy="30492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6781680" y="2286000"/>
            <a:ext cx="205740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938280" y="2300400"/>
            <a:ext cx="177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 u="sng">
                <a:solidFill>
                  <a:srgbClr val="000000"/>
                </a:solidFill>
                <a:uFillTx/>
                <a:latin typeface="Arial"/>
              </a:rPr>
              <a:t>Cliente.Agen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7315200" y="3352680"/>
            <a:ext cx="1219320" cy="10670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5715000" y="3809880"/>
            <a:ext cx="1447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719320" y="3473280"/>
            <a:ext cx="1383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 u="sng">
                <a:solidFill>
                  <a:srgbClr val="000000"/>
                </a:solidFill>
                <a:uFillTx/>
                <a:latin typeface="Arial"/>
              </a:rPr>
              <a:t>Outsour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314120" y="3048120"/>
            <a:ext cx="1112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 u="sng">
                <a:solidFill>
                  <a:srgbClr val="000000"/>
                </a:solidFill>
                <a:uFillTx/>
                <a:latin typeface="Arial"/>
              </a:rPr>
              <a:t>Madri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s-MX" sz="1400" spc="-1" strike="noStrike" u="sng">
                <a:solidFill>
                  <a:srgbClr val="000000"/>
                </a:solidFill>
                <a:uFillTx/>
                <a:latin typeface="Arial"/>
              </a:rPr>
              <a:t>transpor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8077320" y="2818800"/>
            <a:ext cx="761760" cy="685800"/>
          </a:xfrm>
          <a:custGeom>
            <a:avLst/>
            <a:gdLst>
              <a:gd name="textAreaLeft" fmla="*/ 101880 w 761760"/>
              <a:gd name="textAreaRight" fmla="*/ 659880 w 761760"/>
              <a:gd name="textAreaTop" fmla="*/ 136080 h 685800"/>
              <a:gd name="textAreaBottom" fmla="*/ 416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576" stAng="-5400000" swAng="5400000"/>
                <a:lnTo>
                  <a:pt x="21600" y="8832"/>
                </a:lnTo>
                <a:arcTo wR="21600" hR="8576" stAng="0" swAng="2898935"/>
                <a:lnTo>
                  <a:pt x="7200" y="21110"/>
                </a:lnTo>
                <a:lnTo>
                  <a:pt x="0" y="17280"/>
                </a:lnTo>
                <a:lnTo>
                  <a:pt x="7200" y="12470"/>
                </a:lnTo>
                <a:lnTo>
                  <a:pt x="7200" y="16662"/>
                </a:lnTo>
                <a:arcTo wR="21600" hR="8576" stAng="2898935" swAng="-2878561"/>
                <a:lnTo>
                  <a:pt x="21598" y="8704"/>
                </a:lnTo>
                <a:arcTo wR="21600" hR="8576" stAng="-20374" swAng="-5379626"/>
                <a:close/>
              </a:path>
              <a:path fill="darkenLess" w="21600" h="21600">
                <a:moveTo>
                  <a:pt x="0" y="0"/>
                </a:moveTo>
                <a:arcTo wR="21600" hR="8576" stAng="-5400000" swAng="5400000"/>
                <a:lnTo>
                  <a:pt x="21600" y="8832"/>
                </a:lnTo>
                <a:arcTo wR="21600" hR="8576" stAng="0" swAng="-20374"/>
                <a:lnTo>
                  <a:pt x="21598" y="8704"/>
                </a:lnTo>
                <a:arcTo wR="21600" hR="8576" stAng="-20374" swAng="-5379626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7315200" y="2644920"/>
            <a:ext cx="1066680" cy="25056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 flipH="1">
            <a:off x="2362320" y="4267080"/>
            <a:ext cx="1371600" cy="1143000"/>
          </a:xfrm>
          <a:custGeom>
            <a:avLst/>
            <a:gdLst>
              <a:gd name="textAreaLeft" fmla="*/ 183600 w 1371600"/>
              <a:gd name="textAreaRight" fmla="*/ 1188000 w 1371600"/>
              <a:gd name="textAreaTop" fmla="*/ 226800 h 1143000"/>
              <a:gd name="textAreaBottom" fmla="*/ 69444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576" stAng="-5400000" swAng="5400000"/>
                <a:lnTo>
                  <a:pt x="21600" y="8832"/>
                </a:lnTo>
                <a:arcTo wR="21600" hR="8576" stAng="0" swAng="2898935"/>
                <a:lnTo>
                  <a:pt x="7200" y="21110"/>
                </a:lnTo>
                <a:lnTo>
                  <a:pt x="0" y="17280"/>
                </a:lnTo>
                <a:lnTo>
                  <a:pt x="7200" y="12470"/>
                </a:lnTo>
                <a:lnTo>
                  <a:pt x="7200" y="16662"/>
                </a:lnTo>
                <a:arcTo wR="21600" hR="8576" stAng="2898935" swAng="-2878561"/>
                <a:lnTo>
                  <a:pt x="21598" y="8704"/>
                </a:lnTo>
                <a:arcTo wR="21600" hR="8576" stAng="-20374" swAng="-5379626"/>
                <a:close/>
              </a:path>
              <a:path fill="darkenLess" w="21600" h="21600">
                <a:moveTo>
                  <a:pt x="0" y="0"/>
                </a:moveTo>
                <a:arcTo wR="21600" hR="8576" stAng="-5400000" swAng="5400000"/>
                <a:lnTo>
                  <a:pt x="21600" y="8832"/>
                </a:lnTo>
                <a:arcTo wR="21600" hR="8576" stAng="0" swAng="-20374"/>
                <a:lnTo>
                  <a:pt x="21598" y="8704"/>
                </a:lnTo>
                <a:arcTo wR="21600" hR="8576" stAng="-20374" swAng="-5379626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98880" y="4038480"/>
            <a:ext cx="1563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 u="sng">
                <a:solidFill>
                  <a:srgbClr val="000000"/>
                </a:solidFill>
                <a:uFillTx/>
                <a:latin typeface="Arial"/>
              </a:rPr>
              <a:t>Outsourcing-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362320" y="3733920"/>
            <a:ext cx="838080" cy="228600"/>
          </a:xfrm>
          <a:custGeom>
            <a:avLst/>
            <a:gdLst>
              <a:gd name="textAreaLeft" fmla="*/ 146520 w 838080"/>
              <a:gd name="textAreaRight" fmla="*/ 607680 w 838080"/>
              <a:gd name="textAreaTop" fmla="*/ 30600 h 228600"/>
              <a:gd name="textAreaBottom" fmla="*/ 19800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ABFAA-C3F0-4A34-BC27-D05B29881461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C07F3B-6978-4C06-85BF-48F1A09006F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8427A-EBA1-4AE8-B176-29B2C01E0EA8}" type="slidenum">
              <a:t>17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423BD5-20C5-4030-B32E-76E47F68A1A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395280" y="907920"/>
            <a:ext cx="8305920" cy="561672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1619280" y="115920"/>
            <a:ext cx="66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s-MX" sz="2400" spc="-1" strike="noStrike">
                <a:solidFill>
                  <a:srgbClr val="006600"/>
                </a:solidFill>
                <a:latin typeface="Arial"/>
              </a:rPr>
              <a:t>caso </a:t>
            </a:r>
            <a:r>
              <a:rPr b="0" lang="es-MX" sz="2400" spc="-1" strike="noStrike" u="sng">
                <a:solidFill>
                  <a:srgbClr val="006600"/>
                </a:solidFill>
                <a:uFillTx/>
                <a:latin typeface="Arial"/>
              </a:rPr>
              <a:t>“NIKe”</a:t>
            </a:r>
            <a:r>
              <a:rPr b="0" lang="es-MX" sz="2400" spc="-1" strike="noStrike">
                <a:solidFill>
                  <a:srgbClr val="006600"/>
                </a:solidFill>
                <a:latin typeface="Arial"/>
              </a:rPr>
              <a:t>, hechos y antecedentes :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9E304-BEAD-4D8B-9557-E289AC265461}" type="slidenum">
              <a:t>18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71B1CF-1FDB-4BF3-86A6-9A4EB49F694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10. </a:t>
            </a:r>
            <a:r>
              <a:rPr b="0" lang="es-MX" sz="3200" spc="-1" strike="noStrike" u="sng">
                <a:solidFill>
                  <a:srgbClr val="000000"/>
                </a:solidFill>
                <a:uFillTx/>
                <a:latin typeface="Arial"/>
              </a:rPr>
              <a:t>Conclus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68000" y="836640"/>
            <a:ext cx="828036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Regla de  Oro:   </a:t>
            </a:r>
            <a:r>
              <a:rPr b="1" lang="es-MX" sz="16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s-MX" sz="2000" spc="-1" strike="noStrike">
                <a:solidFill>
                  <a:srgbClr val="006600"/>
                </a:solidFill>
                <a:latin typeface="Arial"/>
              </a:rPr>
              <a:t>“ </a:t>
            </a:r>
            <a:r>
              <a:rPr b="1" lang="es-ES" sz="2000" spc="-1" strike="noStrike">
                <a:solidFill>
                  <a:srgbClr val="006600"/>
                </a:solidFill>
                <a:latin typeface="Arial"/>
              </a:rPr>
              <a:t>Conservar lo critico y difícil</a:t>
            </a:r>
            <a:r>
              <a:rPr b="1" lang="es-MX" sz="2000" spc="-1" strike="noStrike">
                <a:solidFill>
                  <a:srgbClr val="006600"/>
                </a:solidFill>
                <a:latin typeface="Arial"/>
              </a:rPr>
              <a:t> 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Dejar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que alguien más especializado haga lo </a:t>
            </a: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que este fuer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 del enfoque (objetivo) de la empresa y  de manera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más económ</a:t>
            </a: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ica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, buscar la mej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s-MX" sz="1600" spc="-1" strike="noStrike">
                <a:solidFill>
                  <a:srgbClr val="006600"/>
                </a:solidFill>
                <a:latin typeface="Arial"/>
              </a:rPr>
              <a:t>“ </a:t>
            </a:r>
            <a:r>
              <a:rPr b="1" lang="es-ES" sz="1800" spc="-1" strike="noStrike">
                <a:solidFill>
                  <a:srgbClr val="006600"/>
                </a:solidFill>
                <a:latin typeface="Arial"/>
              </a:rPr>
              <a:t>Calidad</a:t>
            </a:r>
            <a:r>
              <a:rPr b="1" lang="es-MX" sz="1800" spc="-1" strike="noStrike">
                <a:solidFill>
                  <a:srgbClr val="006600"/>
                </a:solidFill>
                <a:latin typeface="Arial"/>
              </a:rPr>
              <a:t> ”</a:t>
            </a:r>
            <a:r>
              <a:rPr b="1" lang="es-ES" sz="1800" spc="-1" strike="noStrike">
                <a:solidFill>
                  <a:srgbClr val="006600"/>
                </a:solidFill>
                <a:latin typeface="Arial"/>
              </a:rPr>
              <a:t>.</a:t>
            </a:r>
            <a:r>
              <a:rPr b="1" lang="es-ES" sz="16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Es la transmisión mutua de Valores e integración del negocio c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beneficios para todos:   </a:t>
            </a:r>
            <a:r>
              <a:rPr b="1" lang="es-MX" sz="1800" spc="-1" strike="noStrike">
                <a:solidFill>
                  <a:srgbClr val="006600"/>
                </a:solidFill>
                <a:latin typeface="Arial"/>
              </a:rPr>
              <a:t>Actitud “ Ganar / Ganar 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lave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00"/>
              </a:spcBef>
              <a:buClr>
                <a:srgbClr val="00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6600"/>
                </a:solidFill>
                <a:latin typeface="Arial"/>
              </a:rPr>
              <a:t>Actuar con inteligencia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y decidir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qué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se conserva y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qué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se concesiona a  un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Terce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La decisión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ó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lo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se puede tomar conociendo a fondo y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bien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nuestro negoci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Empresa Inteligente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Es la organización que posee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las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habilidades para crear, adquirir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y transferir conocimient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Tiene también la habilidad para modificar su conducta (su manera de hacer las cosas);  y como efecto 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99cc00"/>
                </a:solidFill>
                <a:latin typeface="Arial"/>
              </a:rPr>
              <a:t>   </a:t>
            </a:r>
            <a:r>
              <a:rPr b="1" lang="es-ES" sz="2000" spc="-1" strike="noStrike">
                <a:solidFill>
                  <a:srgbClr val="006600"/>
                </a:solidFill>
                <a:latin typeface="Arial"/>
              </a:rPr>
              <a:t>“ </a:t>
            </a:r>
            <a:r>
              <a:rPr b="1" lang="es-ES" sz="2000" spc="-1" strike="noStrike">
                <a:solidFill>
                  <a:srgbClr val="006600"/>
                </a:solidFill>
                <a:latin typeface="Arial"/>
              </a:rPr>
              <a:t>Haber adquirido nuevos conocimientos y puntos de vista”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2340000" y="1844640"/>
            <a:ext cx="934920" cy="5763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 rot="16200000">
            <a:off x="2644560" y="2908080"/>
            <a:ext cx="512640" cy="9795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51280" y="4437000"/>
            <a:ext cx="1008000" cy="719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FEF30-A056-4250-A9CB-E76A846DADF0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4A312C-7167-4DB8-8796-89A6904B848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6544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85840" y="16048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Defini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Antecede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Objetivo y Alc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Exposición de la Herramien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Metodología, Uso y Aplic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Valor Agreg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La moda del  SIZING.  -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Otras Técnicas de Apoy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Beneficios y Recomenda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onclus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Bibliografí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Sesión de preguntas y respuest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655B4-D9E0-4FF0-AF74-8B8BC8A52222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B22E6A-ADA3-4C8C-B3AE-1B8F7852E22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Arial"/>
              </a:rPr>
              <a:t>10. </a:t>
            </a:r>
            <a:r>
              <a:rPr b="0" lang="es-MX" sz="3600" spc="-1" strike="noStrike" u="sng">
                <a:solidFill>
                  <a:srgbClr val="000000"/>
                </a:solidFill>
                <a:uFillTx/>
                <a:latin typeface="Arial"/>
              </a:rPr>
              <a:t>Bibliograf</a:t>
            </a:r>
            <a:r>
              <a:rPr b="0" lang="es-ES" sz="3600" spc="-1" strike="noStrike" u="sng">
                <a:solidFill>
                  <a:srgbClr val="000000"/>
                </a:solidFill>
                <a:uFillTx/>
                <a:latin typeface="Arial"/>
              </a:rPr>
              <a:t>í</a:t>
            </a:r>
            <a:r>
              <a:rPr b="0" lang="es-MX" sz="3600" spc="-1" strike="noStrike" u="sng">
                <a:solidFill>
                  <a:srgbClr val="000000"/>
                </a:solidFill>
                <a:uFillTx/>
                <a:latin typeface="Arial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826920" y="1557000"/>
            <a:ext cx="756144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Outsourcin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de Floyd Parks y Randolph Johns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vistas Expansión Julio 1999  articulo el Outsourcing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[ junio  2001 y 2004]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caso Nik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vistas  Manufactura Febrero y Abril de 1997 y 2000.- En busca de la eficiencia, a través del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Outsourcin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7467480" y="5638680"/>
            <a:ext cx="997200" cy="8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rebuchet MS"/>
              </a:rPr>
              <a:t>Nuevas Tendencias Administrativas                 “Outsourcing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1258920" y="2349360"/>
            <a:ext cx="6662880" cy="11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000000"/>
                </a:solidFill>
                <a:latin typeface="Arial"/>
              </a:rPr>
              <a:t>Graci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523880" y="4648320"/>
            <a:ext cx="61722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Lic. Jaime G. S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á</a:t>
            </a: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nchez Carril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jsanchez43@prodigy.net.m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jsanchez43@hotmail.com.m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 u="sng">
                <a:solidFill>
                  <a:srgbClr val="000000"/>
                </a:solidFill>
                <a:uFillTx/>
                <a:latin typeface="Arial"/>
              </a:rPr>
              <a:t>1. Defini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09120" y="1052640"/>
            <a:ext cx="8029800" cy="5256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700" spc="-1" strike="noStrike">
                <a:solidFill>
                  <a:srgbClr val="000000"/>
                </a:solidFill>
                <a:latin typeface="Arial"/>
              </a:rPr>
              <a:t>Source</a:t>
            </a:r>
            <a:r>
              <a:rPr b="0" lang="es-MX" sz="17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i="1" lang="es-MX" sz="1700" spc="-1" strike="noStrike">
                <a:solidFill>
                  <a:srgbClr val="000000"/>
                </a:solidFill>
                <a:latin typeface="Arial"/>
              </a:rPr>
              <a:t>Sourcing</a:t>
            </a:r>
            <a:r>
              <a:rPr b="0" lang="es-MX" sz="1700" spc="-1" strike="noStrike">
                <a:solidFill>
                  <a:srgbClr val="000000"/>
                </a:solidFill>
                <a:latin typeface="Arial"/>
              </a:rPr>
              <a:t>) – </a:t>
            </a: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Fuente, </a:t>
            </a:r>
            <a:r>
              <a:rPr b="1" lang="es-ES" sz="1700" spc="-1" strike="noStrike">
                <a:solidFill>
                  <a:srgbClr val="000000"/>
                </a:solidFill>
                <a:latin typeface="Arial"/>
              </a:rPr>
              <a:t>Tercearizar 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700" spc="-1" strike="noStrike">
                <a:solidFill>
                  <a:srgbClr val="000000"/>
                </a:solidFill>
                <a:latin typeface="Arial"/>
              </a:rPr>
              <a:t>[contratar con un tercero]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000000"/>
                </a:solidFill>
                <a:latin typeface="Arial"/>
              </a:rPr>
              <a:t>Subcontratación</a:t>
            </a:r>
            <a:r>
              <a:rPr b="0" lang="es-MX" sz="1700" spc="-1" strike="noStrike">
                <a:solidFill>
                  <a:srgbClr val="000000"/>
                </a:solidFill>
                <a:latin typeface="Arial"/>
              </a:rPr>
              <a:t> –es la </a:t>
            </a:r>
            <a:r>
              <a:rPr b="1" lang="es-MX" sz="1700" spc="-1" strike="noStrike">
                <a:solidFill>
                  <a:srgbClr val="000000"/>
                </a:solidFill>
                <a:latin typeface="Arial"/>
              </a:rPr>
              <a:t>Forma</a:t>
            </a:r>
            <a:r>
              <a:rPr b="1" lang="es-ES" sz="1700" spc="-1" strike="noStrike">
                <a:solidFill>
                  <a:srgbClr val="000000"/>
                </a:solidFill>
                <a:latin typeface="Arial"/>
              </a:rPr>
              <a:t> de convertir los </a:t>
            </a:r>
            <a:r>
              <a:rPr b="1" lang="es-ES" sz="1700" spc="-1" strike="noStrike">
                <a:solidFill>
                  <a:srgbClr val="006600"/>
                </a:solidFill>
                <a:latin typeface="Arial"/>
              </a:rPr>
              <a:t>Costos Fijos en Variables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000000"/>
                </a:solidFill>
                <a:latin typeface="Arial"/>
              </a:rPr>
              <a:t>Descentralizar</a:t>
            </a:r>
            <a:r>
              <a:rPr b="1" lang="es-MX" sz="17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 sacar  de la empresa  aquellas funciones que no sean </a:t>
            </a:r>
            <a:r>
              <a:rPr b="0" lang="es-MX" sz="17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u especialidad; que no den  </a:t>
            </a:r>
            <a:r>
              <a:rPr b="1" lang="es-ES" sz="1700" spc="-1" strike="noStrike">
                <a:solidFill>
                  <a:srgbClr val="006600"/>
                </a:solidFill>
                <a:latin typeface="Arial"/>
              </a:rPr>
              <a:t>valor agregado directo</a:t>
            </a: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0" lang="es-MX" sz="17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u Producto o</a:t>
            </a:r>
            <a:r>
              <a:rPr b="0" lang="es-MX" sz="1700" spc="-1" strike="noStrike">
                <a:solidFill>
                  <a:srgbClr val="000000"/>
                </a:solidFill>
                <a:latin typeface="Arial"/>
              </a:rPr>
              <a:t> Servicio</a:t>
            </a: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700" spc="-1" strike="noStrike">
                <a:solidFill>
                  <a:srgbClr val="000000"/>
                </a:solidFill>
                <a:latin typeface="Arial"/>
              </a:rPr>
              <a:t>Outsourcing</a:t>
            </a:r>
            <a:r>
              <a:rPr b="0" lang="es-MX" sz="17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 Función que se realizaba en la empresa internamente y ahora</a:t>
            </a:r>
            <a:r>
              <a:rPr b="0" lang="es-MX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es provista por un</a:t>
            </a:r>
            <a:r>
              <a:rPr b="0" lang="es-MX" sz="1700" spc="-1" strike="noStrike">
                <a:solidFill>
                  <a:srgbClr val="000000"/>
                </a:solidFill>
                <a:latin typeface="Arial"/>
              </a:rPr>
              <a:t> Proveedor </a:t>
            </a: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 exter</a:t>
            </a:r>
            <a:r>
              <a:rPr b="0" lang="es-MX" sz="1700" spc="-1" strike="noStrike">
                <a:solidFill>
                  <a:srgbClr val="000000"/>
                </a:solidFill>
                <a:latin typeface="Arial"/>
              </a:rPr>
              <a:t>no y experto</a:t>
            </a: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s-MX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con mejor calidad,</a:t>
            </a:r>
            <a:r>
              <a:rPr b="0" lang="es-MX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servicio y precio.[</a:t>
            </a:r>
            <a:r>
              <a:rPr b="1" lang="es-ES" sz="1700" spc="-1" strike="noStrike" u="sng">
                <a:solidFill>
                  <a:srgbClr val="000000"/>
                </a:solidFill>
                <a:uFillTx/>
                <a:latin typeface="Arial"/>
              </a:rPr>
              <a:t>Tercearizar</a:t>
            </a:r>
            <a:r>
              <a:rPr b="0" lang="es-ES" sz="1700" spc="-1" strike="noStrike">
                <a:solidFill>
                  <a:srgbClr val="000000"/>
                </a:solidFill>
                <a:latin typeface="Arial"/>
              </a:rPr>
              <a:t>]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900" spc="-1" strike="noStrike">
                <a:solidFill>
                  <a:srgbClr val="000000"/>
                </a:solidFill>
                <a:latin typeface="Arial"/>
              </a:rPr>
              <a:t>Herramienta</a:t>
            </a: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 para adelgazar a las empresas complejas y con diversidad de</a:t>
            </a:r>
            <a:r>
              <a:rPr b="0" lang="es-MX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productos y desprenderse de lo que no es fundamental para el negocio, la estrategia</a:t>
            </a:r>
            <a:r>
              <a:rPr b="0" lang="es-MX" sz="1900" spc="-1" strike="noStrike">
                <a:solidFill>
                  <a:srgbClr val="000000"/>
                </a:solidFill>
                <a:latin typeface="Arial"/>
              </a:rPr>
              <a:t> o su desarrollo</a:t>
            </a: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900" spc="-1" strike="noStrike">
                <a:solidFill>
                  <a:srgbClr val="000000"/>
                </a:solidFill>
                <a:latin typeface="Arial"/>
              </a:rPr>
              <a:t>Método</a:t>
            </a: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 para contratar y </a:t>
            </a:r>
            <a:r>
              <a:rPr b="1" lang="es-ES" sz="1900" spc="-1" strike="noStrike">
                <a:solidFill>
                  <a:srgbClr val="000000"/>
                </a:solidFill>
                <a:latin typeface="Arial"/>
              </a:rPr>
              <a:t>comisionar</a:t>
            </a: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 los servicios a un </a:t>
            </a:r>
            <a:r>
              <a:rPr b="1" lang="es-ES" sz="19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s-MX" sz="1900" spc="-1" strike="noStrike" baseline="30000">
                <a:solidFill>
                  <a:srgbClr val="000000"/>
                </a:solidFill>
                <a:latin typeface="Arial"/>
              </a:rPr>
              <a:t>r</a:t>
            </a:r>
            <a:r>
              <a:rPr b="1" lang="es-ES" sz="19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 confiable, para que maneje con recursos externos</a:t>
            </a:r>
            <a:r>
              <a:rPr b="0" lang="es-MX" sz="19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s-ES" sz="1900" spc="-1" strike="noStrike">
                <a:solidFill>
                  <a:srgbClr val="000000"/>
                </a:solidFill>
                <a:latin typeface="Arial"/>
              </a:rPr>
              <a:t> la(s) función(es), que no tengan que ver directamente con la actividad  fundamental de la empresa.[vocación del negocio]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AC16E-83BF-4E74-B392-3E484D719474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13D1F2-108F-4733-89ED-9CEF68E61AB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2. Antecede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4360" y="1125000"/>
            <a:ext cx="7958160" cy="5040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Después de la 1</a:t>
            </a:r>
            <a:r>
              <a:rPr b="1" lang="es-ES" sz="2000" spc="-1" strike="noStrike" baseline="30000">
                <a:solidFill>
                  <a:srgbClr val="000000"/>
                </a:solidFill>
                <a:latin typeface="Arial"/>
              </a:rPr>
              <a:t>ra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Guerra Mundial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: La tendencia fue crear grandes empresas con integración vertical y horizont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Surgimiento de la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Industria Japonesa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:con Empresas pequeñas y flexibles, dinámicas y eficientes.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Outsourcing d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esarrollo acelerado a partir de 1983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Actualmente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as grandes empresas (grupos)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están adelgazando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se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y desprendiéndose de negocios no vitales, que no agregan valor a sus productos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Por lo tanto, existen  beneficios en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las estructura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verticales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3C308-C143-42AC-89D9-D40595E34E6B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BF74D3-4D69-4358-B6EB-E8360FF64CF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3. Objetivo Y Alc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11280" y="1052280"/>
            <a:ext cx="7958160" cy="4537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6600"/>
                </a:solidFill>
                <a:latin typeface="Arial"/>
              </a:rPr>
              <a:t>Concesionar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con especialistas  externos, la ejecución de la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(s)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tarea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(s) espec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í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fica(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ograr </a:t>
            </a:r>
            <a:r>
              <a:rPr b="1" lang="es-ES" sz="1800" spc="-1" strike="noStrike">
                <a:solidFill>
                  <a:srgbClr val="006600"/>
                </a:solidFill>
                <a:latin typeface="Arial"/>
              </a:rPr>
              <a:t>Eficiencia</a:t>
            </a:r>
            <a:r>
              <a:rPr b="0" lang="es-ES" sz="1800" spc="-1" strike="noStrike">
                <a:solidFill>
                  <a:srgbClr val="006600"/>
                </a:solidFill>
                <a:latin typeface="Arial"/>
              </a:rPr>
              <a:t>, </a:t>
            </a:r>
            <a:r>
              <a:rPr b="1" lang="es-MX" sz="1800" spc="-1" strike="noStrike">
                <a:solidFill>
                  <a:srgbClr val="006600"/>
                </a:solidFill>
                <a:latin typeface="Arial"/>
              </a:rPr>
              <a:t>Oportunidad</a:t>
            </a:r>
            <a:r>
              <a:rPr b="0" lang="es-ES" sz="1800" spc="-1" strike="noStrike">
                <a:solidFill>
                  <a:srgbClr val="006600"/>
                </a:solidFill>
                <a:latin typeface="Arial"/>
              </a:rPr>
              <a:t>, </a:t>
            </a:r>
            <a:r>
              <a:rPr b="1" lang="es-MX" sz="1800" spc="-1" strike="noStrike">
                <a:solidFill>
                  <a:srgbClr val="006600"/>
                </a:solidFill>
                <a:latin typeface="Arial"/>
              </a:rPr>
              <a:t>Calidad</a:t>
            </a:r>
            <a:r>
              <a:rPr b="0" lang="es-ES" sz="1800" spc="-1" strike="noStrike">
                <a:solidFill>
                  <a:srgbClr val="006600"/>
                </a:solidFill>
                <a:latin typeface="Arial"/>
              </a:rPr>
              <a:t> y </a:t>
            </a:r>
            <a:r>
              <a:rPr b="1" lang="es-MX" sz="18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1" lang="es-ES" sz="1800" spc="-1" strike="noStrike">
                <a:solidFill>
                  <a:srgbClr val="006600"/>
                </a:solidFill>
                <a:latin typeface="Arial"/>
              </a:rPr>
              <a:t>educción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de cos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6600"/>
                </a:solidFill>
                <a:latin typeface="Arial"/>
              </a:rPr>
              <a:t>     </a:t>
            </a:r>
            <a:r>
              <a:rPr b="1" lang="es-ES" sz="1800" spc="-1" strike="noStrike">
                <a:solidFill>
                  <a:srgbClr val="006600"/>
                </a:solidFill>
                <a:latin typeface="Arial"/>
              </a:rPr>
              <a:t>Concesionar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los servicios a  un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Proveedor experto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ambio de </a:t>
            </a:r>
            <a:r>
              <a:rPr b="1" lang="es-ES" sz="1800" spc="-1" strike="noStrike">
                <a:solidFill>
                  <a:srgbClr val="006600"/>
                </a:solidFill>
                <a:latin typeface="Arial"/>
              </a:rPr>
              <a:t>integración vertical a integración modular y flexible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con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base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en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la oferta y la demanda de los servicios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y/o product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6600"/>
                </a:solidFill>
                <a:latin typeface="Arial"/>
              </a:rPr>
              <a:t>Reducir</a:t>
            </a:r>
            <a:r>
              <a:rPr b="0" lang="es-ES" sz="1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carga laboral.[Contractual y sindical]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6600"/>
                </a:solidFill>
                <a:latin typeface="Arial"/>
              </a:rPr>
              <a:t>Buscar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que la función a descentralizar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se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más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económica,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con mejor calidad y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con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mejores resultados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que hacerla internamen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6600"/>
                </a:solidFill>
                <a:latin typeface="Arial"/>
              </a:rPr>
              <a:t>Desahogo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de ciertas responsabilidades con un 3</a:t>
            </a:r>
            <a:r>
              <a:rPr b="0" lang="es-MX" sz="1800" spc="-1" strike="noStrike" baseline="30000">
                <a:solidFill>
                  <a:srgbClr val="000000"/>
                </a:solidFill>
                <a:latin typeface="Arial"/>
              </a:rPr>
              <a:t>ro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(externo)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experto, para dedicar mayor tiempo a la actividad fundamental de la empresa y buscar la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xcelenci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7596360" y="6021360"/>
            <a:ext cx="861840" cy="482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0A4C5-986D-40B5-8983-EC4C38E3373A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B0D72D-D820-41FC-B067-B1BEFBAB445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809280" y="1557360"/>
            <a:ext cx="3902040" cy="351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006600"/>
                </a:solidFill>
                <a:uFillTx/>
                <a:latin typeface="Arial"/>
              </a:rPr>
              <a:t>Outsourcing Prima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La maquila;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el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ensamble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y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los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subensambles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El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Proceso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de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Sistemas de compu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El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Mantenimiento Operacional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Consultaría, Auditorias,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legal,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fiscal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, operacional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etc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Mercadotecnia, Publicidad y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romo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Telemercadeo; Crédito y Cobranz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Manejo de algún área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(s) no estratégicas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863960" y="1557360"/>
            <a:ext cx="3903840" cy="352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006600"/>
                </a:solidFill>
                <a:uFillTx/>
                <a:latin typeface="Arial"/>
              </a:rPr>
              <a:t>Outsourcing </a:t>
            </a:r>
            <a:r>
              <a:rPr b="1" lang="es-MX" sz="2000" spc="-1" strike="noStrike" u="sng">
                <a:solidFill>
                  <a:srgbClr val="006600"/>
                </a:solidFill>
                <a:uFillTx/>
                <a:latin typeface="Arial"/>
              </a:rPr>
              <a:t>Secunda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Limpieza,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fotocopiado,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cuidado de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estacionamient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El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Reclutamiento, selección y contratación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eventual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capacitación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entren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amien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El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Transporte de personal y de Valor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Seguridad y vigilancia,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la a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tención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de la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recepción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Conservación de instalaciones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Distribución de mercancía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a los client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title"/>
          </p:nvPr>
        </p:nvSpPr>
        <p:spPr>
          <a:xfrm>
            <a:off x="97164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4. Exposici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ó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n De La Herramienta:</a:t>
            </a:r>
            <a:br>
              <a:rPr sz="2800"/>
            </a:b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Método de Planeacion estratégica.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55640" y="519120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Arial"/>
              </a:rPr>
              <a:t>Cuando en el proceso se manejan productos  inflamables y/o explosivos, la prima de Seguros se encarece, siendo mas conveniente concesionarla con un Tercero</a:t>
            </a:r>
            <a:r>
              <a:rPr b="1" lang="es-MX" sz="1800" spc="-1" strike="noStrike">
                <a:solidFill>
                  <a:srgbClr val="ff0000"/>
                </a:solidFill>
                <a:latin typeface="Arial"/>
              </a:rPr>
              <a:t> experto, para</a:t>
            </a:r>
            <a:r>
              <a:rPr b="1" lang="es-ES" sz="1800" spc="-1" strike="noStrike">
                <a:solidFill>
                  <a:srgbClr val="ff0000"/>
                </a:solidFill>
                <a:latin typeface="Arial"/>
              </a:rPr>
              <a:t> compartir el riesgo</a:t>
            </a:r>
            <a:r>
              <a:rPr b="1" lang="es-MX" sz="1800" spc="-1" strike="noStrike">
                <a:solidFill>
                  <a:srgbClr val="ff0000"/>
                </a:solidFill>
                <a:latin typeface="Arial"/>
              </a:rPr>
              <a:t> y los costos</a:t>
            </a:r>
            <a:r>
              <a:rPr b="1" lang="es-ES" sz="18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8D900-3CBB-49F6-B3D3-0D41171C4E6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92CFFE-C88D-4987-8739-D7F73331CE8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0" lang="es-MX" sz="3200" spc="-1" strike="noStrike" u="sng">
                <a:solidFill>
                  <a:srgbClr val="000000"/>
                </a:solidFill>
                <a:uFillTx/>
                <a:latin typeface="Arial"/>
              </a:rPr>
              <a:t>Metodolog</a:t>
            </a:r>
            <a:r>
              <a:rPr b="0" lang="es-ES" sz="3200" spc="-1" strike="noStrike" u="sng">
                <a:solidFill>
                  <a:srgbClr val="000000"/>
                </a:solidFill>
                <a:uFillTx/>
                <a:latin typeface="Arial"/>
              </a:rPr>
              <a:t>í</a:t>
            </a:r>
            <a:r>
              <a:rPr b="0" lang="es-MX" sz="3200" spc="-1" strike="noStrike" u="sng">
                <a:solidFill>
                  <a:srgbClr val="000000"/>
                </a:solidFill>
                <a:uFillTx/>
                <a:latin typeface="Arial"/>
              </a:rPr>
              <a:t>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94920" y="1196640"/>
            <a:ext cx="837252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>
                <a:solidFill>
                  <a:srgbClr val="000000"/>
                </a:solidFill>
                <a:latin typeface="Arial"/>
              </a:rPr>
              <a:t>Subcontratar</a:t>
            </a: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 con un </a:t>
            </a:r>
            <a:r>
              <a:rPr b="0" lang="es-MX" sz="2100" spc="-1" strike="noStrike">
                <a:solidFill>
                  <a:srgbClr val="000000"/>
                </a:solidFill>
                <a:latin typeface="Arial"/>
              </a:rPr>
              <a:t>externo especialista </a:t>
            </a:r>
            <a:r>
              <a:rPr b="0" lang="es-ES" sz="2100" spc="-1" strike="noStrike">
                <a:solidFill>
                  <a:srgbClr val="000000"/>
                </a:solidFill>
                <a:latin typeface="Arial"/>
              </a:rPr>
              <a:t>los servicios de apoyo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onvertir los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osto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fijos en variable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Seleccionar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al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proveedor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mas confiable y seguro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Todo esto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nos permite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Un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Proceso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constante de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aprendizaje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Optimización y consistencia de la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alidad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Manejo de justo a tiempo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s-MX" sz="2000" spc="-1" strike="noStrike">
                <a:solidFill>
                  <a:srgbClr val="000000"/>
                </a:solidFill>
                <a:latin typeface="Arial"/>
              </a:rPr>
              <a:t>“just-in-time”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Un mejor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ervicio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(con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actitud y calidad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de Servicio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Profesionalización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de la funció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ombate la ineficiencia, el burocratismo, el paternalismo, el- conformismo y la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omplacenc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6600"/>
                </a:solidFill>
                <a:latin typeface="Arial"/>
              </a:rPr>
              <a:t>Sabidurí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para manejar la incertidumbre del cambio y del tiempo.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07C45-8137-4E93-899D-FC4C9F9825A5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DA4C86-09DA-4BA2-8846-85D21B29DAA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99640" y="-27000"/>
            <a:ext cx="737892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0" lang="es-MX" sz="3200" spc="-1" strike="noStrike" u="sng">
                <a:solidFill>
                  <a:srgbClr val="000000"/>
                </a:solidFill>
                <a:uFillTx/>
                <a:latin typeface="Arial"/>
              </a:rPr>
              <a:t>El Valor Agrega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95280" y="765000"/>
            <a:ext cx="823104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entros de </a:t>
            </a:r>
            <a:r>
              <a:rPr b="1" lang="es-ES" sz="1800" spc="-1" strike="noStrike">
                <a:solidFill>
                  <a:srgbClr val="006600"/>
                </a:solidFill>
                <a:latin typeface="Arial"/>
              </a:rPr>
              <a:t>capitalización de inteligencia</a:t>
            </a:r>
            <a:r>
              <a:rPr b="0" lang="es-ES" sz="1800" spc="-1" strike="noStrike">
                <a:solidFill>
                  <a:srgbClr val="006600"/>
                </a:solidFill>
                <a:latin typeface="Arial"/>
              </a:rPr>
              <a:t>.-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para  o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btener una ventaja competitiva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con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mejor calidad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mayor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roductividad y precios inferiores a nivel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Global.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  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Industria Automotriz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(Ford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 Motors Company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, G.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M. Chrysler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V.W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Nissan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…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Nike</a:t>
            </a: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y Reebok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(Productos deportivos, zapatos, uniformes y ropa Spor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IBM</a:t>
            </a: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DELL</a:t>
            </a: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H.P. y Compaq; </a:t>
            </a: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Microsoft; Cisco Systems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lang="es-MX" sz="1500" spc="-1" strike="noStrike">
                <a:solidFill>
                  <a:srgbClr val="000000"/>
                </a:solidFill>
                <a:latin typeface="Arial"/>
              </a:rPr>
              <a:t>para el desarroll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de su 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(Hardware y Softwar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iseños </a:t>
            </a: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Benetton 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(ropa casual y de mod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Muebles Segusino</a:t>
            </a: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desarrollo</a:t>
            </a: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de</a:t>
            </a: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talleres familiares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 para fabricación de muebl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elco de G</a:t>
            </a: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M.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(subensambl</a:t>
            </a:r>
            <a:r>
              <a:rPr b="0" lang="es-MX" sz="1500" spc="-1" strike="noStrike">
                <a:solidFill>
                  <a:srgbClr val="000000"/>
                </a:solidFill>
                <a:latin typeface="Arial"/>
              </a:rPr>
              <a:t>es de</a:t>
            </a: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 arneses,  componentes y refacciones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Manpower de México,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(servicios integrales de </a:t>
            </a:r>
            <a:r>
              <a:rPr b="0" lang="es-MX" sz="1500" spc="-1" strike="noStrike">
                <a:solidFill>
                  <a:srgbClr val="000000"/>
                </a:solidFill>
                <a:latin typeface="Arial"/>
              </a:rPr>
              <a:t>Recursos </a:t>
            </a: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Humanos)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Servicios Informáticos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s-MX" sz="1500" spc="-1" strike="noStrike">
                <a:solidFill>
                  <a:srgbClr val="000000"/>
                </a:solidFill>
                <a:latin typeface="Arial"/>
              </a:rPr>
              <a:t> proceso de </a:t>
            </a: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Nomina, contabilidad, Fiscal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600" spc="-1" strike="noStrike">
                <a:solidFill>
                  <a:srgbClr val="000000"/>
                </a:solidFill>
                <a:latin typeface="Arial"/>
              </a:rPr>
              <a:t>Profit recovery group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(Servicios de crédito y cobranza, Legal y penal)</a:t>
            </a:r>
            <a:r>
              <a:rPr b="0" lang="es-MX" sz="15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D.H.L; U.P.S. </a:t>
            </a: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;Federal Express; Estafeta.-</a:t>
            </a:r>
            <a:r>
              <a:rPr b="0" lang="es-ES" sz="1500" spc="-1" strike="noStrike">
                <a:solidFill>
                  <a:srgbClr val="000000"/>
                </a:solidFill>
                <a:latin typeface="Arial"/>
              </a:rPr>
              <a:t>(Servicios de mensajería y paquetería especializa</a:t>
            </a:r>
            <a:r>
              <a:rPr b="0" lang="es-MX" sz="1500" spc="-1" strike="noStrike">
                <a:solidFill>
                  <a:srgbClr val="000000"/>
                </a:solidFill>
                <a:latin typeface="Arial"/>
              </a:rPr>
              <a:t>da)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Factor Riesgo</a:t>
            </a: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debe ser compartido  con 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el proveedor con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especificaciones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y- 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penalización contractual para su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 cabal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cumplimient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El proveedor es el </a:t>
            </a:r>
            <a:r>
              <a:rPr b="1" lang="es-ES" sz="1600" spc="-1" strike="noStrike" u="sng">
                <a:solidFill>
                  <a:srgbClr val="000000"/>
                </a:solidFill>
                <a:uFillTx/>
                <a:latin typeface="Arial"/>
              </a:rPr>
              <a:t>socio estratégico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 comparten el negocio, sus beneficios;     -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la responsabilidad es mutua en Calidad, cumplimiento, [entrega, puntualidad y volumen, etc.]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A9B8A-2589-4971-9475-D18DB1B1EC57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39FA6C-D9EF-461D-A6FD-06D0047CA24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43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7. </a:t>
            </a:r>
            <a:r>
              <a:rPr b="0" lang="es-MX" sz="2400" spc="-1" strike="noStrike" u="sng">
                <a:solidFill>
                  <a:srgbClr val="000000"/>
                </a:solidFill>
                <a:uFillTx/>
                <a:latin typeface="Arial"/>
              </a:rPr>
              <a:t>T</a:t>
            </a:r>
            <a:r>
              <a:rPr b="0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é</a:t>
            </a:r>
            <a:r>
              <a:rPr b="0" lang="es-MX" sz="2400" spc="-1" strike="noStrike" u="sng">
                <a:solidFill>
                  <a:srgbClr val="000000"/>
                </a:solidFill>
                <a:uFillTx/>
                <a:latin typeface="Arial"/>
              </a:rPr>
              <a:t>cnicas de Apoyo.</a:t>
            </a:r>
            <a:br>
              <a:rPr sz="2400"/>
            </a:br>
            <a:br>
              <a:rPr sz="1000"/>
            </a:br>
            <a:r>
              <a:rPr b="1" lang="es-MX" sz="2400" spc="-1" strike="noStrike">
                <a:solidFill>
                  <a:srgbClr val="006600"/>
                </a:solidFill>
                <a:latin typeface="Arial"/>
              </a:rPr>
              <a:t>L a    </a:t>
            </a:r>
            <a:r>
              <a:rPr b="1" lang="es-MX" sz="2400" spc="-1" strike="noStrike" u="sng">
                <a:solidFill>
                  <a:srgbClr val="006600"/>
                </a:solidFill>
                <a:uFillTx/>
                <a:latin typeface="Arial"/>
              </a:rPr>
              <a:t>M O D A</a:t>
            </a:r>
            <a:r>
              <a:rPr b="1" lang="es-MX" sz="2400" spc="-1" strike="noStrike">
                <a:solidFill>
                  <a:srgbClr val="006600"/>
                </a:solidFill>
                <a:latin typeface="Arial"/>
              </a:rPr>
              <a:t>   d e l   </a:t>
            </a:r>
            <a:r>
              <a:rPr b="1" lang="es-MX" sz="2400" spc="-1" strike="noStrike" u="sng">
                <a:solidFill>
                  <a:srgbClr val="006600"/>
                </a:solidFill>
                <a:uFillTx/>
                <a:latin typeface="Arial"/>
              </a:rPr>
              <a:t>S I Z I N G</a:t>
            </a:r>
            <a:r>
              <a:rPr b="1" lang="es-MX" sz="2400" spc="-1" strike="noStrike">
                <a:solidFill>
                  <a:srgbClr val="006600"/>
                </a:solidFill>
                <a:latin typeface="Arial"/>
              </a:rPr>
              <a:t> .</a:t>
            </a:r>
            <a:br>
              <a:rPr sz="20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412640"/>
            <a:ext cx="889308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Down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izing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:  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Aplanar la estructura jerárquica  par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eliminar niveles innecesari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Up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izing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:       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Adaptar la estructura organizacional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al crecimiento de la empres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Righsizing:      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Justa medida, actuar con estrategia  y 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flexibilidad conforme a requerimientos.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[fusionar estructura y funciones]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Leftsizing.-      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Estructura obesa, burocrática, se  describe-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como [elefante blanco]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Insourcing:     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Manejo dentro de las instalaciones  con  -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3os.  especialistas, que ejecutan la fun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7C1DC-3966-4CDB-AAB4-96FA6CBFA913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4F79F0-B713-492C-BC71-03FEF950364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2T04:39:10Z</dcterms:created>
  <dc:creator>Jaime G. Sanchez Carrillo</dc:creator>
  <dc:description/>
  <dc:language>en-US</dc:language>
  <cp:lastModifiedBy> Jaime G.Sanchez C.</cp:lastModifiedBy>
  <dcterms:modified xsi:type="dcterms:W3CDTF">2007-01-10T20:52:07Z</dcterms:modified>
  <cp:revision>85</cp:revision>
  <dc:subject/>
  <dc:title>Nuevas Tendencias Administrativas                 “Outsourcing“</dc:title>
</cp:coreProperties>
</file>